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830-CE56-4EDB-86E0-5096F9B4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E4B-4B52-4A58-8775-350CEE4D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BAF-16A2-4683-9F4B-F3573DB3F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77B-FB0E-4AE8-ACFF-92407238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322-99D2-47C7-860B-2364A9A82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A593-BC46-4F3E-898F-D75EB361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7D1-28F6-4E99-B809-7B31917B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8280-0D77-428A-ABC0-C5CBD319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5D9E-5E71-4046-9FAA-1F3D0468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124-6FE8-423A-8EFF-F0C27FFB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88B-D3C7-4B0C-B466-27F7CBAF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AD4-931B-4A17-A961-4FB77970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1972-55A6-4463-9C99-5E4C6C48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0B84-A1A0-4999-9D4A-74437587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9620-51C8-4A32-87EE-E167A085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C563-A826-424B-8E32-CDFF62A3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449E-F6A0-416D-92AD-AE80E7171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A66C-BEA2-4F52-9B3F-99CFD699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E2CD-2199-4E42-85DE-9CDDF753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016-37FD-4BB8-91D0-C1C66B81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BDE-D888-4EDA-B78E-5297ADEB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406-9C12-4BBC-8220-B481BBC3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D11-2CD7-409A-B6CD-ECAE78DF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FCBD-CBA4-4ADD-8C3A-11B10A0C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7B4-7C65-46B2-8F6E-71364202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1523-64F5-41F7-B992-3527CDA6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2459-1D7F-4150-8DC5-F1A48822C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A1A-05CB-49F0-BE77-99C81F69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D66-D298-4E47-A914-680BBC32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 Programming in C++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orward Iterato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1698480"/>
            <a:ext cx="81374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ain(int argc, char **argv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&lt;string&gt; args(argv, argv + argc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&lt;string&gt;::iterator iter = args.begi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 ; iter != args.end(); ++iter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t &lt;&lt; *iter &lt;&lt; " "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t &lt;&lt; endl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Reverse Iterator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&lt;string&gt;::reverse_iterator iter = args.rbegi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; iter != args.rend(); ++iter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t &lt;&lt; *iter &lt;&lt; " "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t &lt;&lt; endl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ner Produc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&lt;unsigned&gt; ia1 = {1, 2, 3, 4, 5, 6, 7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&lt;unsigned&gt; ia2 = {7, 6, 5, 4, 3, 2, 1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ot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_product(ia1.begin(), ia1.end(), ia2.begin(), 0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ner_product: defini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1698480"/>
            <a:ext cx="8134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inner_product(InputIterator first1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Iterator last1, InputIterator first2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init, BinaryFunction op1, BinaryFunction op2)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t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first1, last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2 =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rst2 + (i1 - first1)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op1(result, op2(*i1, *i2)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ner Product (string concat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Join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(string const &amp;sep): sep(sep) {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operator()(string const&amp; s1, string const&amp; s2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1 + sep + s2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se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&lt;string&gt; names1= {"Frank", "Karel", "Piet"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&lt;string&gt; names2 = {"Brokken", "Kubat", "Plomp"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_product(names.begin(), names1.end(), names2.begin(), "\t“, Join("\n"), Join(" ")) 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arametrized Bubblesor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&lt;class 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greater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operator()(const T&amp; a, const T&amp; b) const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&gt; 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&lt;class 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less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operator()(const T&amp; a, const T&amp; b) const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&lt; 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x = 3, y = 5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 b = greater&lt;int&gt;()(x, y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unction object ver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&lt;class T, class C=less&lt;T&gt; 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bubblesort(vector&lt;T&gt; a, const C&amp; comp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unsigned i = 0; i &lt; a.size(); ++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unsigned j = i+1; j &lt; a.size(); ++j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mp(a[i], a[j]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(a[i], a[j]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raditional Functional vers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698480"/>
            <a:ext cx="82072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bubblesort(vector&lt;T&gt; a, bool (*comp)(T&amp;, T&amp;)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unsigned i = 0; i &lt; size; ++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unsigned j = i+1; j &lt; size; ++j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mp(a[i], a[j]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(a[i], a[j]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ubblesort usag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&lt;int&gt; x = {1, 5, 3, 4, 2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sort(x, greater&lt;int&gt;()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sort(x, less&lt;int&gt;()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implicit type in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&lt;float&gt; f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blesort(f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uses less&lt;floa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ic Paramete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or squaring a numb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r(x) { return x * x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ver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qr(int x) { return x * x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ers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qrInt(int x) { return x * x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overloa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qr(int x) { return x * x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sqr(double x) { return x * x;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(Partial) Template Special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e version of the class template code can be provided for certain templat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&lt;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bubblesort&lt;vector&lt;string&amp;&gt; &gt;(…)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specialization: when only some of the template parameters are suppl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emplate Enumer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6560" y="1698480"/>
            <a:ext cx="809964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template&lt;class T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lass Vector : public vector&lt;T&gt;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publ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Enumeration getEnumeration(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return (Enumeration(*this)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lass Enumeration { …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umeration (2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class Enumeration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rivat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vector&lt;T&gt; const&amp; v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unsigned id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publ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Enumeration(vector&lt;T&gt; const&amp; vector)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v(vector), idx(0)  { 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 const&amp; next() { </a:t>
            </a:r>
            <a:r>
              <a:rPr b="0" lang="en-US" sz="1800" spc="-1" strike="noStrike">
                <a:solidFill>
                  <a:srgbClr val="ff0000"/>
                </a:solidFill>
                <a:latin typeface="Lucida Sans Typewriter"/>
              </a:rPr>
              <a:t>// uses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if (idx == vp.size(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throw NoSuchElementException(inde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return vp[idx++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bool hasNext() { return idx &lt; vp.size()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numeration (3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Vector&lt;int&gt; vector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Vector&lt;int&gt;::Enumeration en = vector.getEnumeration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while (en.hasNext(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out &lt;&lt; en.next() &lt;&lt; endl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ssue: template instanti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// file sumVector.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emplate 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 sumVector(T* array, unsigned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 sum(0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for (int i = 0; i &lt; n; ++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um += 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turn sum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}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antiation (1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#include "sumVector.h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int x[] = {1, 2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double y[] = {1.1, 2.2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cout &lt;&lt; sumVector(x, 2) &lt;&lt; en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&lt;&lt; sumVector(y, 2) &lt;&lt; end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template function definition is included in different source files, separately compiled and linked, there will be only one instantiation, per type of template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antiation (2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emplate function, if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required instantiation is available in another source fi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emplate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 sumVector(T* tp, unsigned 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nt v[] = {1, 2}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umVector(v, 2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stantiation (3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440" y="16984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mplate functions in header files, keep the definition in a template source fi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emplate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T sumVector(T* tp, unsigned n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turn *t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tatic void* p1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tatic_cast&lt;int (*)(int*, unsigned)&gt;(sumVector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Forcing Instanti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74640" y="1698480"/>
            <a:ext cx="835992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 void* p[] =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_cast&lt;int (*)(int*, unsigned)&gt;(sumVector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_cast&lt;double (*)(double*, unsigned)&gt;(sumVector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static_cast&lt;unsigned (*)(unsigned *, unsigned)&gt;(sumVe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}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plicit Instanti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55280" y="1698480"/>
            <a:ext cx="820908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template&lt;class 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T sumVector(T *tp, unsigned 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{ return (*tp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template int sumVector&lt;int&gt;(int *, unsigned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template double sumVector&lt;double&gt;(double *, unsigned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template unsigned sumVector&lt;unsigned&gt;(unsigned *, unsigned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Templat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sqr(T x) { return x * x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automatically generates a version for each parameter type used by a progra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3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 = 3.14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a = sqr(a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b = sqr(b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Notes: macros’ limit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000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qr(x) ((x) * (x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a = sqr(a++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a = ((a++) * (a++)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aa = sqr(aa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fact(n) (n == 0) ? 1 : fact(n-1) *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QR(T) T sqr(T x) {return x * x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(in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(double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(a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(b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Other types as well?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omplex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real, imag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operator *(Complex y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omplex(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* y.real – imag * y.imag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* y.imag + imag * y.real)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(1, 2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c = sqr(c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ile time check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&lt;class T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swap(T&amp; a, T&amp; b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 T temp = 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temp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a = 5, b = 9; int&amp; ar = a;  int* ap = *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++; *ap = (*ap)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(a, b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 = 9.0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(a, c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++ Standard Template Library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represent algorithms in as general form as possible without compromising e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use of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uses static binding (an inlin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ecoupling algorithms from contai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: abstraction of 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TL Organiz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, deque, list, set, map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_each, find, transform,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_iterator, reverse_iterator, istream_iterator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, equal, logical_and, project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Examples from C++ Annotat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_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9:11:02Z</dcterms:created>
  <dc:creator>Giuseppe Attardi</dc:creator>
  <dc:description/>
  <dc:language>en-US</dc:language>
  <cp:lastModifiedBy>Giuseppe Attardi</cp:lastModifiedBy>
  <dcterms:modified xsi:type="dcterms:W3CDTF">2016-03-14T12:16:45Z</dcterms:modified>
  <cp:revision>99</cp:revision>
  <dc:subject/>
  <dc:title>Generic Programming in C++</dc:title>
</cp:coreProperties>
</file>